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</p:sldIdLst>
  <p:sldSz cx="12188825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dt" idx="1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sldImg"/>
          </p:nvPr>
        </p:nvSpPr>
        <p:spPr>
          <a:xfrm>
            <a:off x="114120" y="746280"/>
            <a:ext cx="6629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ftr" idx="18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 type="sldNum" idx="19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0943-B66D-4D3E-8D7B-266578D8C1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0749-D32E-40BC-AE22-4D2F95C43B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3C5-17A6-450A-AA1D-D11559CA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D01-668A-40CF-AB4A-3D474DF2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88A-2A75-4442-A022-813E0411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A5C-A89A-457D-8C8E-9D80DD24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A1F-5B98-41B5-8212-0BBAF46D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F1F-A434-4CDA-876F-069F7D85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E4B-8DFE-4071-9AB4-8ED9012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8D9-B805-4099-BA2D-981E7BF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7E7-3BA1-4006-92D6-54A5B118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FBA-1718-4A14-937D-6387D8A8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58B-037F-4866-9AB2-13C8B6C2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830-CA9D-4006-8701-1E76F8E0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7BA5-AB72-452B-9E6C-CF77BCF1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A395-14B7-4870-B59B-8778AB37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BE07-B240-4719-BB99-061B6E92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6B37-A676-4960-A693-FFEEF174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9B0B-8961-4F0A-A338-97429EF1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04FF-502C-47D0-BDFF-DA9FA2EB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2FE4-D497-47A9-9640-EAEFF8D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E50E-93D5-49F3-AB42-254642CF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51F3-CF50-40CC-9655-171A551F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D0C6-B486-45CC-A2B8-88A9B5BB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993B-C018-44BB-92C2-52684CCC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5EF0-1A66-4D0D-8FD2-FD1A677A1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DD01D-B9C4-4B0C-997B-6FD2BEEFE3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AD1AA-9B01-4591-9F23-D64BFFEE60C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DBDA01-EC76-425A-B080-0D05CB3F521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F6545-F6D3-432F-B4A2-79100497215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2680A-46AE-429A-A027-736EC4B0A5F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B07A92-B0AF-4547-9B98-D7F3787B2B3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58294C-FCF7-4313-9066-FF7D139D14F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00FF5C-F378-454E-AEE8-02E263A04F1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2C2B8F-3484-4FA6-BDE9-475996189A6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7B7A82-C51E-46F9-AE30-786374BB3B3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5BD1AC-FC2B-4837-BFD2-10430DEEFF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3B8363-154A-402B-B0A9-22E17B59E64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2AEAF-5DCB-4C9E-97FD-BF4F62DA758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0E29C-3E44-4DFA-B397-3D686407CEA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349F0-4E4D-4BBC-8703-B51E133CE81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2A655-898F-4536-AA3C-A7FE36B6C99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1E211-1DB3-4C52-BC0F-77EBA6F71E7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E9A7A-A6CB-4416-8B4A-3A8846099C3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941FE-0555-49CE-8926-2A25AE98DC3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BC4A9-50EB-4FA2-85B4-E95A651B20A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03C63-5EFC-4355-963A-97555BAFD7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B42CE-A491-4355-99F2-75C0A5CC478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96701-C006-4F54-B6FA-3D9CFB1B237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27074-AFA0-44E3-8CFB-20F76D6BD45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415F-7FAF-494A-91D9-5D42EC3CB53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97A7D-28F6-488A-8A95-77CED8F13C8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8F26C-E74F-4B65-B5B3-1E70D7B3945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3A23-5200-479B-A231-60AF2F5271C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78FF-3ED1-4AEA-AE4D-9154987595E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BF24-A66A-45A3-8BC4-495A5BEF72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95D1C-A953-43EB-A522-FCCE57E6AA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4995-B12E-47CD-A85B-94431B1659A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F045-47D8-4B25-8F59-1213010460F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8D029-3E09-4416-B900-BA93AFAF7A7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F99C-FCC2-44C4-801E-B8AFC5BD6E4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9D5E4-1C89-4916-9E6C-8BABEF9433C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E866D-94C7-4ADB-BB2E-A4BD524D056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45ED4-7567-4F29-9252-6DD94CE0EC1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B1CAD-412C-4745-B98F-A49D15F5A1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6C0FDE-B081-4D72-98AE-2614446CD1B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9B7F4-FE7A-4810-B9EB-8AC70706418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648E6-F338-41A6-AC79-10E12B444A0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448B6-16B0-4079-83C5-429E46BE960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5D5336-350A-44CC-86DE-68EAC6F5C1A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6F941-9031-438F-8DA5-7CA411E9111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53B1E-2925-4425-975A-B7036153BA9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2A730-9AF3-4BD3-A13F-E9DDB4F8CFA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03AF1-E713-4C8A-97EA-0CA6C712000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12CBF1-BC87-4C2F-AF3F-2FCA0FAD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FCD43C-AF94-418D-9904-13395665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65D3FD-CC51-4E52-8724-86160734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946899-3486-4CFD-8F4F-709FD1F7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A7933A-7E0F-4A2B-B642-BFC33AAD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8EEF9B-0819-4F1E-B9FD-B9CF39D8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9DD14-F8F4-4289-BA16-604A8D4C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D19B1D-95AC-49F1-B57A-9CFE7F0D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25F396-7790-4A9C-A501-1F93D3E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B9E70B-D904-4E28-8A3A-D52F8172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886B3C-FA79-405E-9C38-880828AF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D7425B-1FFF-4212-9743-2F818BCE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BAFB3-4DB0-4779-BD17-3AEF7E02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A3AFCC-D2BF-425B-9ADF-B47B3A3D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9F0744-7BA4-4591-9887-86494B01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FF6AC4-32CB-4A24-9B13-59046145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B96B9D-A158-4053-A721-9A7F7EB1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A1FE21-973D-4704-82A1-EDFBD98D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87373E-CE85-428D-9489-BD3294A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D71A2F-4AD4-4843-A7DE-63810BE8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841E44-7EB0-462D-BD89-46C96D77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46BCC1-2150-46DF-BA18-B0B8ECAB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D37B3C-919C-44D9-A9B7-9DBEC7FE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AF6764-D81F-4B0F-A8D1-925D925F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02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0880" y="160452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0880" y="3682080"/>
            <a:ext cx="5353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1892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28000" y="160452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1892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28000" y="3682080"/>
            <a:ext cx="35323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7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ая соединительная линия 8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9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74D6-1CF0-49BE-BE72-C4F7784ED001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1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12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3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ая соединительная линия 8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9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8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9D73-C050-4266-BC1A-D4D484075544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0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1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ая соединительная линия 8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9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1693-A96D-48CA-834B-6AD0D620B4CD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12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ая соединительная линия 13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554" name="Прямая соединительная линия 9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ая соединительная линия 10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9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391B-F90C-4D55-89FC-151852724C2A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ая соединительная линия 13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14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7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8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599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603" name="Прямая соединительная линия 9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10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9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482C-8E05-414D-BBFB-16C9A08DEDBF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12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13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14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с двумя усеченными соседними углами 20"/>
          <p:cNvSpPr/>
          <p:nvPr/>
        </p:nvSpPr>
        <p:spPr>
          <a:xfrm rot="10800000">
            <a:off x="5437080" y="704520"/>
            <a:ext cx="1602000" cy="156960"/>
          </a:xfrm>
          <a:custGeom>
            <a:avLst/>
            <a:gdLst/>
            <a:ahLst/>
            <a:rect l="l" t="t" r="r" b="b"/>
            <a:pathLst>
              <a:path w="1601787" h="157163">
                <a:moveTo>
                  <a:pt x="66524" y="0"/>
                </a:moveTo>
                <a:lnTo>
                  <a:pt x="1535263" y="0"/>
                </a:lnTo>
                <a:lnTo>
                  <a:pt x="1601787" y="66524"/>
                </a:lnTo>
                <a:lnTo>
                  <a:pt x="1601787" y="157163"/>
                </a:lnTo>
                <a:lnTo>
                  <a:pt x="1601787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6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8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649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653" name="Прямая соединительная линия 9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ая соединительная линия 10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9A4-AAC5-4A85-8A54-C69D2DF575A4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2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5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pic>
        <p:nvPicPr>
          <p:cNvPr id="696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697" name="Прямая соединительная линия 6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ая соединительная линия 7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8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6B62-50B1-492E-A8F5-B12D18315A28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9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ая соединительная линия 10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11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с двумя усеченными соседними углами 22"/>
          <p:cNvSpPr/>
          <p:nvPr/>
        </p:nvSpPr>
        <p:spPr>
          <a:xfrm rot="10800000">
            <a:off x="8647200" y="686520"/>
            <a:ext cx="1603440" cy="157320"/>
          </a:xfrm>
          <a:custGeom>
            <a:avLst/>
            <a:gdLst/>
            <a:ahLst/>
            <a:rect l="l" t="t" r="r" b="b"/>
            <a:pathLst>
              <a:path w="1603375" h="157162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2"/>
                </a:lnTo>
                <a:lnTo>
                  <a:pt x="1603375" y="157162"/>
                </a:lnTo>
                <a:lnTo>
                  <a:pt x="0" y="157162"/>
                </a:lnTo>
                <a:lnTo>
                  <a:pt x="0" y="157162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с двумя усеченными соседними углами 24"/>
          <p:cNvSpPr/>
          <p:nvPr/>
        </p:nvSpPr>
        <p:spPr>
          <a:xfrm rot="10800000">
            <a:off x="10250280" y="686520"/>
            <a:ext cx="1603080" cy="157320"/>
          </a:xfrm>
          <a:custGeom>
            <a:avLst/>
            <a:gdLst/>
            <a:ahLst/>
            <a:rect l="l" t="t" r="r" b="b"/>
            <a:pathLst>
              <a:path w="1603375" h="157162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2"/>
                </a:lnTo>
                <a:lnTo>
                  <a:pt x="1603375" y="157162"/>
                </a:lnTo>
                <a:lnTo>
                  <a:pt x="0" y="157162"/>
                </a:lnTo>
                <a:lnTo>
                  <a:pt x="0" y="157162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2"/>
          <p:cNvSpPr/>
          <p:nvPr/>
        </p:nvSpPr>
        <p:spPr>
          <a:xfrm>
            <a:off x="8971560" y="642960"/>
            <a:ext cx="8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3"/>
          <p:cNvSpPr/>
          <p:nvPr/>
        </p:nvSpPr>
        <p:spPr>
          <a:xfrm>
            <a:off x="10639440" y="6429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ИЧИ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3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5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AC55-52F4-4950-9CA1-56B9122347A7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sldNum" idx="3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E4ED-8A6B-482C-A26A-C9E31BD21A3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5" name="Объект 3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6" name="Объект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7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72E0-5067-4A24-B3DE-F7904EE6D779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ftr" idx="5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Num" idx="6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98A-86D4-457E-A3B8-DA39C3CC425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830" name="TextBox 6"/>
          <p:cNvSpPr/>
          <p:nvPr/>
        </p:nvSpPr>
        <p:spPr>
          <a:xfrm>
            <a:off x="11107800" y="6580080"/>
            <a:ext cx="652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E483-F191-43CF-AC28-7EF535D2D11A}" type="slidenum">
              <a:rPr b="1" lang="ru-RU" sz="800" spc="-1" strike="noStrike">
                <a:solidFill>
                  <a:srgbClr val="0062ac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ятиугольник 6"/>
          <p:cNvSpPr/>
          <p:nvPr/>
        </p:nvSpPr>
        <p:spPr>
          <a:xfrm rot="16200000">
            <a:off x="5015520" y="216000"/>
            <a:ext cx="2158920" cy="1014264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0142640"/>
              <a:gd name="textAreaBottom" fmla="*/ 10143000 h 101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8501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Равнобедренный треугольник 7"/>
          <p:cNvSpPr/>
          <p:nvPr/>
        </p:nvSpPr>
        <p:spPr>
          <a:xfrm>
            <a:off x="5264280" y="3848040"/>
            <a:ext cx="1662120" cy="360360"/>
          </a:xfrm>
          <a:prstGeom prst="triangle">
            <a:avLst>
              <a:gd name="adj" fmla="val 50000"/>
            </a:avLst>
          </a:prstGeom>
          <a:solidFill>
            <a:srgbClr val="bb8501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ятиугольник 8"/>
          <p:cNvSpPr/>
          <p:nvPr/>
        </p:nvSpPr>
        <p:spPr>
          <a:xfrm rot="5400000">
            <a:off x="5014800" y="-3252600"/>
            <a:ext cx="2160360" cy="1014264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0142640"/>
              <a:gd name="textAreaBottom" fmla="*/ 10143000 h 1014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4a7a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Равнобедренный треугольник 9"/>
          <p:cNvSpPr/>
          <p:nvPr/>
        </p:nvSpPr>
        <p:spPr>
          <a:xfrm rot="10800000">
            <a:off x="5263920" y="2898360"/>
            <a:ext cx="1662120" cy="360360"/>
          </a:xfrm>
          <a:prstGeom prst="triangle">
            <a:avLst>
              <a:gd name="adj" fmla="val 50000"/>
            </a:avLst>
          </a:prstGeom>
          <a:solidFill>
            <a:srgbClr val="004a7a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8"/>
          <p:cNvSpPr/>
          <p:nvPr/>
        </p:nvSpPr>
        <p:spPr>
          <a:xfrm>
            <a:off x="10713960" y="2951280"/>
            <a:ext cx="452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595959"/>
                </a:solidFill>
                <a:latin typeface="Arial"/>
              </a:rPr>
              <a:t>01.01.20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Flowchart: Off-page Connector 9"/>
          <p:cNvSpPr/>
          <p:nvPr/>
        </p:nvSpPr>
        <p:spPr>
          <a:xfrm rot="5400000">
            <a:off x="11728440" y="126000"/>
            <a:ext cx="384480" cy="538200"/>
          </a:xfrm>
          <a:prstGeom prst="flowChartOffpageConnector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Num" idx="7"/>
          </p:nvPr>
        </p:nvSpPr>
        <p:spPr>
          <a:xfrm>
            <a:off x="11701080" y="20268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A1E4-4428-4B69-B6B7-5C720280D06D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Flowchart: Off-page Connector 9"/>
          <p:cNvSpPr/>
          <p:nvPr/>
        </p:nvSpPr>
        <p:spPr>
          <a:xfrm rot="5400000">
            <a:off x="11728440" y="126000"/>
            <a:ext cx="384480" cy="538200"/>
          </a:xfrm>
          <a:prstGeom prst="flowChartOffpageConnector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Num" idx="8"/>
          </p:nvPr>
        </p:nvSpPr>
        <p:spPr>
          <a:xfrm>
            <a:off x="11701080" y="20268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9684-A5EF-4677-8B13-A9CC7C177EB0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Flowchart: Off-page Connector 7"/>
          <p:cNvSpPr/>
          <p:nvPr/>
        </p:nvSpPr>
        <p:spPr>
          <a:xfrm rot="5400000">
            <a:off x="11728440" y="126000"/>
            <a:ext cx="384480" cy="538200"/>
          </a:xfrm>
          <a:prstGeom prst="flowChartOffpageConnector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Num" idx="9"/>
          </p:nvPr>
        </p:nvSpPr>
        <p:spPr>
          <a:xfrm>
            <a:off x="11701080" y="20268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1D50-E607-4957-80F0-D84AF1ED26D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7"/>
          <p:cNvGrpSpPr/>
          <p:nvPr/>
        </p:nvGrpSpPr>
        <p:grpSpPr>
          <a:xfrm>
            <a:off x="0" y="6732720"/>
            <a:ext cx="12190320" cy="125280"/>
            <a:chOff x="0" y="6732720"/>
            <a:chExt cx="12190320" cy="125280"/>
          </a:xfrm>
        </p:grpSpPr>
        <p:grpSp>
          <p:nvGrpSpPr>
            <p:cNvPr id="987" name="Group 43"/>
            <p:cNvGrpSpPr/>
            <p:nvPr/>
          </p:nvGrpSpPr>
          <p:grpSpPr>
            <a:xfrm>
              <a:off x="0" y="6732720"/>
              <a:ext cx="5218200" cy="125280"/>
              <a:chOff x="0" y="6732720"/>
              <a:chExt cx="5218200" cy="125280"/>
            </a:xfrm>
          </p:grpSpPr>
          <p:sp>
            <p:nvSpPr>
              <p:cNvPr id="988" name="Rectangle 14"/>
              <p:cNvSpPr/>
              <p:nvPr/>
            </p:nvSpPr>
            <p:spPr>
              <a:xfrm>
                <a:off x="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Rectangle 15"/>
              <p:cNvSpPr/>
              <p:nvPr/>
            </p:nvSpPr>
            <p:spPr>
              <a:xfrm>
                <a:off x="1755720" y="6732720"/>
                <a:ext cx="1755720" cy="125280"/>
              </a:xfrm>
              <a:prstGeom prst="rect">
                <a:avLst/>
              </a:prstGeom>
              <a:solidFill>
                <a:srgbClr val="f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Rectangle 16"/>
              <p:cNvSpPr/>
              <p:nvPr/>
            </p:nvSpPr>
            <p:spPr>
              <a:xfrm>
                <a:off x="3462480" y="6732720"/>
                <a:ext cx="1755720" cy="125280"/>
              </a:xfrm>
              <a:prstGeom prst="rect">
                <a:avLst/>
              </a:prstGeom>
              <a:solidFill>
                <a:srgbClr val="2ac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Group 44"/>
            <p:cNvGrpSpPr/>
            <p:nvPr/>
          </p:nvGrpSpPr>
          <p:grpSpPr>
            <a:xfrm>
              <a:off x="5218200" y="6732720"/>
              <a:ext cx="6972120" cy="125280"/>
              <a:chOff x="5218200" y="6732720"/>
              <a:chExt cx="6972120" cy="125280"/>
            </a:xfrm>
          </p:grpSpPr>
          <p:sp>
            <p:nvSpPr>
              <p:cNvPr id="992" name="Rectangle 10"/>
              <p:cNvSpPr/>
              <p:nvPr/>
            </p:nvSpPr>
            <p:spPr>
              <a:xfrm>
                <a:off x="5218200" y="6732720"/>
                <a:ext cx="1755720" cy="125280"/>
              </a:xfrm>
              <a:prstGeom prst="rect">
                <a:avLst/>
              </a:prstGeom>
              <a:solidFill>
                <a:srgbClr val="3bc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Rectangle 11"/>
              <p:cNvSpPr/>
              <p:nvPr/>
            </p:nvSpPr>
            <p:spPr>
              <a:xfrm>
                <a:off x="6973920" y="6732720"/>
                <a:ext cx="1755720" cy="125280"/>
              </a:xfrm>
              <a:prstGeom prst="rect">
                <a:avLst/>
              </a:prstGeom>
              <a:solidFill>
                <a:srgbClr val="29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Rectangle 12"/>
              <p:cNvSpPr/>
              <p:nvPr/>
            </p:nvSpPr>
            <p:spPr>
              <a:xfrm>
                <a:off x="8678880" y="6732720"/>
                <a:ext cx="1755720" cy="125280"/>
              </a:xfrm>
              <a:prstGeom prst="rect">
                <a:avLst/>
              </a:prstGeom>
              <a:solidFill>
                <a:srgbClr val="7f73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Rectangle 13"/>
              <p:cNvSpPr/>
              <p:nvPr/>
            </p:nvSpPr>
            <p:spPr>
              <a:xfrm>
                <a:off x="1043460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7"/>
          <p:cNvGrpSpPr/>
          <p:nvPr/>
        </p:nvGrpSpPr>
        <p:grpSpPr>
          <a:xfrm>
            <a:off x="0" y="6732720"/>
            <a:ext cx="12190320" cy="125280"/>
            <a:chOff x="0" y="6732720"/>
            <a:chExt cx="12190320" cy="125280"/>
          </a:xfrm>
        </p:grpSpPr>
        <p:grpSp>
          <p:nvGrpSpPr>
            <p:cNvPr id="1033" name="Group 43"/>
            <p:cNvGrpSpPr/>
            <p:nvPr/>
          </p:nvGrpSpPr>
          <p:grpSpPr>
            <a:xfrm>
              <a:off x="0" y="6732720"/>
              <a:ext cx="5218200" cy="125280"/>
              <a:chOff x="0" y="6732720"/>
              <a:chExt cx="5218200" cy="125280"/>
            </a:xfrm>
          </p:grpSpPr>
          <p:sp>
            <p:nvSpPr>
              <p:cNvPr id="1034" name="Rectangle 14"/>
              <p:cNvSpPr/>
              <p:nvPr/>
            </p:nvSpPr>
            <p:spPr>
              <a:xfrm>
                <a:off x="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Rectangle 15"/>
              <p:cNvSpPr/>
              <p:nvPr/>
            </p:nvSpPr>
            <p:spPr>
              <a:xfrm>
                <a:off x="1755720" y="6732720"/>
                <a:ext cx="1755720" cy="125280"/>
              </a:xfrm>
              <a:prstGeom prst="rect">
                <a:avLst/>
              </a:prstGeom>
              <a:solidFill>
                <a:srgbClr val="f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Rectangle 16"/>
              <p:cNvSpPr/>
              <p:nvPr/>
            </p:nvSpPr>
            <p:spPr>
              <a:xfrm>
                <a:off x="3462480" y="6732720"/>
                <a:ext cx="1755720" cy="125280"/>
              </a:xfrm>
              <a:prstGeom prst="rect">
                <a:avLst/>
              </a:prstGeom>
              <a:solidFill>
                <a:srgbClr val="2ac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44"/>
            <p:cNvGrpSpPr/>
            <p:nvPr/>
          </p:nvGrpSpPr>
          <p:grpSpPr>
            <a:xfrm>
              <a:off x="5218200" y="6732720"/>
              <a:ext cx="6972120" cy="125280"/>
              <a:chOff x="5218200" y="6732720"/>
              <a:chExt cx="6972120" cy="125280"/>
            </a:xfrm>
          </p:grpSpPr>
          <p:sp>
            <p:nvSpPr>
              <p:cNvPr id="1038" name="Rectangle 10"/>
              <p:cNvSpPr/>
              <p:nvPr/>
            </p:nvSpPr>
            <p:spPr>
              <a:xfrm>
                <a:off x="5218200" y="6732720"/>
                <a:ext cx="1755720" cy="125280"/>
              </a:xfrm>
              <a:prstGeom prst="rect">
                <a:avLst/>
              </a:prstGeom>
              <a:solidFill>
                <a:srgbClr val="3bc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11"/>
              <p:cNvSpPr/>
              <p:nvPr/>
            </p:nvSpPr>
            <p:spPr>
              <a:xfrm>
                <a:off x="6973920" y="6732720"/>
                <a:ext cx="1755720" cy="125280"/>
              </a:xfrm>
              <a:prstGeom prst="rect">
                <a:avLst/>
              </a:prstGeom>
              <a:solidFill>
                <a:srgbClr val="29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2"/>
              <p:cNvSpPr/>
              <p:nvPr/>
            </p:nvSpPr>
            <p:spPr>
              <a:xfrm>
                <a:off x="8678880" y="6732720"/>
                <a:ext cx="1755720" cy="125280"/>
              </a:xfrm>
              <a:prstGeom prst="rect">
                <a:avLst/>
              </a:prstGeom>
              <a:solidFill>
                <a:srgbClr val="7f73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13"/>
              <p:cNvSpPr/>
              <p:nvPr/>
            </p:nvSpPr>
            <p:spPr>
              <a:xfrm>
                <a:off x="1043460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2" name="Flowchart: Off-page Connector 17"/>
          <p:cNvSpPr/>
          <p:nvPr/>
        </p:nvSpPr>
        <p:spPr>
          <a:xfrm rot="5400000">
            <a:off x="11728440" y="126000"/>
            <a:ext cx="384480" cy="538200"/>
          </a:xfrm>
          <a:prstGeom prst="flowChartOffpageConnector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Num" idx="10"/>
          </p:nvPr>
        </p:nvSpPr>
        <p:spPr>
          <a:xfrm>
            <a:off x="11701080" y="20268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F228-AFBE-450B-90D8-395C80DB9AEC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FontAwesom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7"/>
          <p:cNvGrpSpPr/>
          <p:nvPr/>
        </p:nvGrpSpPr>
        <p:grpSpPr>
          <a:xfrm>
            <a:off x="0" y="6732720"/>
            <a:ext cx="12190320" cy="125280"/>
            <a:chOff x="0" y="6732720"/>
            <a:chExt cx="12190320" cy="125280"/>
          </a:xfrm>
        </p:grpSpPr>
        <p:grpSp>
          <p:nvGrpSpPr>
            <p:cNvPr id="1081" name="Group 43"/>
            <p:cNvGrpSpPr/>
            <p:nvPr/>
          </p:nvGrpSpPr>
          <p:grpSpPr>
            <a:xfrm>
              <a:off x="0" y="6732720"/>
              <a:ext cx="5218200" cy="125280"/>
              <a:chOff x="0" y="6732720"/>
              <a:chExt cx="5218200" cy="125280"/>
            </a:xfrm>
          </p:grpSpPr>
          <p:sp>
            <p:nvSpPr>
              <p:cNvPr id="1082" name="Rectangle 17"/>
              <p:cNvSpPr/>
              <p:nvPr/>
            </p:nvSpPr>
            <p:spPr>
              <a:xfrm>
                <a:off x="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Rectangle 18"/>
              <p:cNvSpPr/>
              <p:nvPr/>
            </p:nvSpPr>
            <p:spPr>
              <a:xfrm>
                <a:off x="1755720" y="6732720"/>
                <a:ext cx="1755720" cy="125280"/>
              </a:xfrm>
              <a:prstGeom prst="rect">
                <a:avLst/>
              </a:prstGeom>
              <a:solidFill>
                <a:srgbClr val="f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Rectangle 19"/>
              <p:cNvSpPr/>
              <p:nvPr/>
            </p:nvSpPr>
            <p:spPr>
              <a:xfrm>
                <a:off x="3462480" y="6732720"/>
                <a:ext cx="1755720" cy="125280"/>
              </a:xfrm>
              <a:prstGeom prst="rect">
                <a:avLst/>
              </a:prstGeom>
              <a:solidFill>
                <a:srgbClr val="2ac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5" name="Group 44"/>
            <p:cNvGrpSpPr/>
            <p:nvPr/>
          </p:nvGrpSpPr>
          <p:grpSpPr>
            <a:xfrm>
              <a:off x="5218200" y="6732720"/>
              <a:ext cx="6972120" cy="125280"/>
              <a:chOff x="5218200" y="6732720"/>
              <a:chExt cx="6972120" cy="125280"/>
            </a:xfrm>
          </p:grpSpPr>
          <p:sp>
            <p:nvSpPr>
              <p:cNvPr id="1086" name="Rectangle 11"/>
              <p:cNvSpPr/>
              <p:nvPr/>
            </p:nvSpPr>
            <p:spPr>
              <a:xfrm>
                <a:off x="5218200" y="6732720"/>
                <a:ext cx="1755720" cy="125280"/>
              </a:xfrm>
              <a:prstGeom prst="rect">
                <a:avLst/>
              </a:prstGeom>
              <a:solidFill>
                <a:srgbClr val="3bc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Rectangle 12"/>
              <p:cNvSpPr/>
              <p:nvPr/>
            </p:nvSpPr>
            <p:spPr>
              <a:xfrm>
                <a:off x="6973920" y="6732720"/>
                <a:ext cx="1755720" cy="125280"/>
              </a:xfrm>
              <a:prstGeom prst="rect">
                <a:avLst/>
              </a:prstGeom>
              <a:solidFill>
                <a:srgbClr val="29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13"/>
              <p:cNvSpPr/>
              <p:nvPr/>
            </p:nvSpPr>
            <p:spPr>
              <a:xfrm>
                <a:off x="8678880" y="6732720"/>
                <a:ext cx="1755720" cy="125280"/>
              </a:xfrm>
              <a:prstGeom prst="rect">
                <a:avLst/>
              </a:prstGeom>
              <a:solidFill>
                <a:srgbClr val="7f73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5"/>
              <p:cNvSpPr/>
              <p:nvPr/>
            </p:nvSpPr>
            <p:spPr>
              <a:xfrm>
                <a:off x="1043460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7"/>
          <p:cNvGrpSpPr/>
          <p:nvPr/>
        </p:nvGrpSpPr>
        <p:grpSpPr>
          <a:xfrm>
            <a:off x="0" y="6732720"/>
            <a:ext cx="12190320" cy="125280"/>
            <a:chOff x="0" y="6732720"/>
            <a:chExt cx="12190320" cy="125280"/>
          </a:xfrm>
        </p:grpSpPr>
        <p:grpSp>
          <p:nvGrpSpPr>
            <p:cNvPr id="1127" name="Group 43"/>
            <p:cNvGrpSpPr/>
            <p:nvPr/>
          </p:nvGrpSpPr>
          <p:grpSpPr>
            <a:xfrm>
              <a:off x="0" y="6732720"/>
              <a:ext cx="5218200" cy="125280"/>
              <a:chOff x="0" y="6732720"/>
              <a:chExt cx="5218200" cy="125280"/>
            </a:xfrm>
          </p:grpSpPr>
          <p:sp>
            <p:nvSpPr>
              <p:cNvPr id="1128" name="Rectangle 17"/>
              <p:cNvSpPr/>
              <p:nvPr/>
            </p:nvSpPr>
            <p:spPr>
              <a:xfrm>
                <a:off x="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18"/>
              <p:cNvSpPr/>
              <p:nvPr/>
            </p:nvSpPr>
            <p:spPr>
              <a:xfrm>
                <a:off x="1755720" y="6732720"/>
                <a:ext cx="1755720" cy="125280"/>
              </a:xfrm>
              <a:prstGeom prst="rect">
                <a:avLst/>
              </a:prstGeom>
              <a:solidFill>
                <a:srgbClr val="ff3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19"/>
              <p:cNvSpPr/>
              <p:nvPr/>
            </p:nvSpPr>
            <p:spPr>
              <a:xfrm>
                <a:off x="3462480" y="6732720"/>
                <a:ext cx="1755720" cy="125280"/>
              </a:xfrm>
              <a:prstGeom prst="rect">
                <a:avLst/>
              </a:prstGeom>
              <a:solidFill>
                <a:srgbClr val="2ac2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44"/>
            <p:cNvGrpSpPr/>
            <p:nvPr/>
          </p:nvGrpSpPr>
          <p:grpSpPr>
            <a:xfrm>
              <a:off x="5218200" y="6732720"/>
              <a:ext cx="6972120" cy="125280"/>
              <a:chOff x="5218200" y="6732720"/>
              <a:chExt cx="6972120" cy="125280"/>
            </a:xfrm>
          </p:grpSpPr>
          <p:sp>
            <p:nvSpPr>
              <p:cNvPr id="1132" name="Rectangle 11"/>
              <p:cNvSpPr/>
              <p:nvPr/>
            </p:nvSpPr>
            <p:spPr>
              <a:xfrm>
                <a:off x="5218200" y="6732720"/>
                <a:ext cx="1755720" cy="125280"/>
              </a:xfrm>
              <a:prstGeom prst="rect">
                <a:avLst/>
              </a:prstGeom>
              <a:solidFill>
                <a:srgbClr val="3bc7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12"/>
              <p:cNvSpPr/>
              <p:nvPr/>
            </p:nvSpPr>
            <p:spPr>
              <a:xfrm>
                <a:off x="6973920" y="6732720"/>
                <a:ext cx="1755720" cy="125280"/>
              </a:xfrm>
              <a:prstGeom prst="rect">
                <a:avLst/>
              </a:prstGeom>
              <a:solidFill>
                <a:srgbClr val="29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13"/>
              <p:cNvSpPr/>
              <p:nvPr/>
            </p:nvSpPr>
            <p:spPr>
              <a:xfrm>
                <a:off x="8678880" y="6732720"/>
                <a:ext cx="1755720" cy="125280"/>
              </a:xfrm>
              <a:prstGeom prst="rect">
                <a:avLst/>
              </a:prstGeom>
              <a:solidFill>
                <a:srgbClr val="7f73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15"/>
              <p:cNvSpPr/>
              <p:nvPr/>
            </p:nvSpPr>
            <p:spPr>
              <a:xfrm>
                <a:off x="10434600" y="6732720"/>
                <a:ext cx="1755720" cy="125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374840"/>
                    <a:tab algn="l" pos="2749680"/>
                    <a:tab algn="l" pos="4124160"/>
                    <a:tab algn="l" pos="5499000"/>
                    <a:tab algn="l" pos="6873840"/>
                    <a:tab algn="l" pos="8248680"/>
                    <a:tab algn="l" pos="96235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dt" idx="1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3D4C-C539-40B2-A000-C958FC357B06}" type="datetime">
              <a: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ftr" idx="12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sldNum" idx="13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125-A242-42DF-94F6-7AE0BFCB3BC0}" type="slidenum">
              <a: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dt" idx="1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69A9-9555-4ABA-BC25-0854D3D799EC}" type="datetime">
              <a: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ftr" idx="15"/>
          </p:nvPr>
        </p:nvSpPr>
        <p:spPr>
          <a:xfrm>
            <a:off x="4165560" y="635652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sldNum" idx="16"/>
          </p:nvPr>
        </p:nvSpPr>
        <p:spPr>
          <a:xfrm>
            <a:off x="873612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122040" rIns="122040" tIns="60840" bIns="608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9378-B241-4002-8539-5569DB7BF8E2}" type="slidenum">
              <a:rPr b="0" lang="ru-RU" sz="2400" spc="-1" strike="noStrike">
                <a:solidFill>
                  <a:srgbClr val="262626"/>
                </a:solidFill>
                <a:latin typeface="Times New Roman"/>
                <a:ea typeface="FontAwesom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ая соединительная линия 3"/>
          <p:cNvSpPr/>
          <p:nvPr/>
        </p:nvSpPr>
        <p:spPr>
          <a:xfrm>
            <a:off x="2495520" y="3276720"/>
            <a:ext cx="719928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2"/>
          <a:stretch/>
        </p:blipFill>
        <p:spPr>
          <a:xfrm>
            <a:off x="5016600" y="1512720"/>
            <a:ext cx="2157480" cy="11145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ая соединительная линия 5"/>
          <p:cNvSpPr/>
          <p:nvPr/>
        </p:nvSpPr>
        <p:spPr>
          <a:xfrm>
            <a:off x="2495520" y="5345280"/>
            <a:ext cx="719928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6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7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E89A-9EDE-49AC-9E68-842B8E1C752C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0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1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5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" descr=""/>
          <p:cNvPicPr/>
          <p:nvPr/>
        </p:nvPicPr>
        <p:blipFill>
          <a:blip r:embed="rId6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7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8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1E6A-07C8-44D6-B44B-8BB8F8BED100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2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0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с двумя усеченными соседними углами 13"/>
          <p:cNvSpPr/>
          <p:nvPr/>
        </p:nvSpPr>
        <p:spPr>
          <a:xfrm rot="10800000">
            <a:off x="544032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ая соединительная линия 10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11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7678-4F6D-4B3E-A1D5-EECBB2470B65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4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15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с двумя усеченными соседними углами 13"/>
          <p:cNvSpPr/>
          <p:nvPr/>
        </p:nvSpPr>
        <p:spPr>
          <a:xfrm rot="10800000">
            <a:off x="544032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ая соединительная линия 10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11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533D-D80E-4104-82DF-BDC275ABAA0C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14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15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с двумя усеченными соседними углами 13"/>
          <p:cNvSpPr/>
          <p:nvPr/>
        </p:nvSpPr>
        <p:spPr>
          <a:xfrm rot="10800000">
            <a:off x="544032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ая соединительная линия 10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11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D22B-1B5D-4C7D-94D4-F349136C9D1F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3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14"/>
          <p:cNvSpPr/>
          <p:nvPr/>
        </p:nvSpPr>
        <p:spPr>
          <a:xfrm>
            <a:off x="336600" y="578160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15"/>
          <p:cNvSpPr/>
          <p:nvPr/>
        </p:nvSpPr>
        <p:spPr>
          <a:xfrm>
            <a:off x="336600" y="6345360"/>
            <a:ext cx="11517120" cy="0"/>
          </a:xfrm>
          <a:prstGeom prst="line">
            <a:avLst/>
          </a:prstGeom>
          <a:ln w="6480">
            <a:solidFill>
              <a:srgbClr val="004c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Объект 1"/>
          <p:cNvGraphicFramePr/>
          <p:nvPr/>
        </p:nvGraphicFramePr>
        <p:xfrm>
          <a:off x="1440" y="1440"/>
          <a:ext cx="1800" cy="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800" cy="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Рисунок 4" descr=""/>
          <p:cNvPicPr/>
          <p:nvPr/>
        </p:nvPicPr>
        <p:blipFill>
          <a:blip r:embed="rId4"/>
          <a:stretch/>
        </p:blipFill>
        <p:spPr>
          <a:xfrm>
            <a:off x="4822920" y="2184480"/>
            <a:ext cx="2544840" cy="248904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с двумя усеченными соседними углами 13"/>
          <p:cNvSpPr/>
          <p:nvPr/>
        </p:nvSpPr>
        <p:spPr>
          <a:xfrm rot="10800000">
            <a:off x="544032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с двумя усеченными соседними углами 20"/>
          <p:cNvSpPr/>
          <p:nvPr/>
        </p:nvSpPr>
        <p:spPr>
          <a:xfrm rot="10800000">
            <a:off x="704376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с двумя усеченными соседними углами 22"/>
          <p:cNvSpPr/>
          <p:nvPr/>
        </p:nvSpPr>
        <p:spPr>
          <a:xfrm rot="10800000">
            <a:off x="8647200" y="704520"/>
            <a:ext cx="160344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004a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с двумя усеченными соседними углами 24"/>
          <p:cNvSpPr/>
          <p:nvPr/>
        </p:nvSpPr>
        <p:spPr>
          <a:xfrm rot="10800000">
            <a:off x="10250280" y="704520"/>
            <a:ext cx="1603080" cy="156960"/>
          </a:xfrm>
          <a:custGeom>
            <a:avLst/>
            <a:gdLst/>
            <a:ahLst/>
            <a:rect l="l" t="t" r="r" b="b"/>
            <a:pathLst>
              <a:path w="1603375" h="157163">
                <a:moveTo>
                  <a:pt x="66524" y="0"/>
                </a:moveTo>
                <a:lnTo>
                  <a:pt x="1536851" y="0"/>
                </a:lnTo>
                <a:lnTo>
                  <a:pt x="1603375" y="66524"/>
                </a:lnTo>
                <a:lnTo>
                  <a:pt x="1603375" y="157163"/>
                </a:lnTo>
                <a:lnTo>
                  <a:pt x="1603375" y="157163"/>
                </a:lnTo>
                <a:lnTo>
                  <a:pt x="0" y="157163"/>
                </a:lnTo>
                <a:lnTo>
                  <a:pt x="0" y="157163"/>
                </a:lnTo>
                <a:lnTo>
                  <a:pt x="0" y="66524"/>
                </a:lnTo>
                <a:lnTo>
                  <a:pt x="66524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1" descr=""/>
          <p:cNvPicPr/>
          <p:nvPr/>
        </p:nvPicPr>
        <p:blipFill>
          <a:blip r:embed="rId5"/>
          <a:stretch/>
        </p:blipFill>
        <p:spPr>
          <a:xfrm>
            <a:off x="10902960" y="141120"/>
            <a:ext cx="950760" cy="49068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ая соединительная линия 10"/>
          <p:cNvSpPr/>
          <p:nvPr/>
        </p:nvSpPr>
        <p:spPr>
          <a:xfrm>
            <a:off x="336600" y="68436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1"/>
          <p:cNvSpPr/>
          <p:nvPr/>
        </p:nvSpPr>
        <p:spPr>
          <a:xfrm>
            <a:off x="336600" y="6567480"/>
            <a:ext cx="11517120" cy="0"/>
          </a:xfrm>
          <a:prstGeom prst="line">
            <a:avLst/>
          </a:prstGeom>
          <a:ln cap="rnd" w="31680">
            <a:solidFill>
              <a:srgbClr val="004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0"/>
          <p:cNvSpPr/>
          <p:nvPr/>
        </p:nvSpPr>
        <p:spPr>
          <a:xfrm>
            <a:off x="11296800" y="6567480"/>
            <a:ext cx="65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8F05-690D-49D1-B8AC-C91AC08C13EA}" type="slidenum">
              <a:rPr b="1" lang="ru-RU" sz="800" spc="-1" strike="noStrike">
                <a:solidFill>
                  <a:srgbClr val="004a7a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3949560" y="6567480"/>
            <a:ext cx="4291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4c7e"/>
                </a:solidFill>
                <a:latin typeface="Arial"/>
                <a:ea typeface="Arial"/>
              </a:rPr>
              <a:t>© Национальная палата предпринимателей Республики Казахстан «Атамекен»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s.gov.kz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34800" y="188640"/>
            <a:ext cx="10009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a7a"/>
                </a:solidFill>
                <a:latin typeface="Arial"/>
              </a:rPr>
              <a:t>СТАНДАРТТАР МЕН СЕРТИФИКАТТАРДЫ ІЗДЕС</a:t>
            </a:r>
            <a:r>
              <a:rPr b="1" lang="kk-KZ" sz="1800" spc="-1" strike="noStrike">
                <a:solidFill>
                  <a:srgbClr val="004a7a"/>
                </a:solidFill>
                <a:latin typeface="Arial"/>
              </a:rPr>
              <a:t>ТІРУ</a:t>
            </a:r>
            <a:r>
              <a:rPr b="1" lang="ru-RU" sz="1800" spc="-1" strike="noStrike">
                <a:solidFill>
                  <a:srgbClr val="004a7a"/>
                </a:solidFill>
                <a:latin typeface="Arial"/>
              </a:rPr>
              <a:t> БОЙЫНША АҚПАРАТТЫҚ СІЛТЕУ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Прямоугольник 1"/>
          <p:cNvSpPr/>
          <p:nvPr/>
        </p:nvSpPr>
        <p:spPr>
          <a:xfrm>
            <a:off x="550800" y="1076400"/>
            <a:ext cx="2879640" cy="14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Нормативті техникалық құжаттардың бірыңғай мемлекеттік қ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Интернет – портал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egfntd.kz</a:t>
            </a: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рямоугольник 27"/>
          <p:cNvSpPr/>
          <p:nvPr/>
        </p:nvSpPr>
        <p:spPr>
          <a:xfrm>
            <a:off x="550800" y="5195880"/>
            <a:ext cx="287964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Қазақстандық мазмұн» - 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www.ks.gov.kz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нтернет – портал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Прямая соединительная линия 28"/>
          <p:cNvSpPr/>
          <p:nvPr/>
        </p:nvSpPr>
        <p:spPr>
          <a:xfrm>
            <a:off x="330120" y="2595600"/>
            <a:ext cx="11525400" cy="1440"/>
          </a:xfrm>
          <a:prstGeom prst="line">
            <a:avLst/>
          </a:prstGeom>
          <a:ln w="19080">
            <a:solidFill>
              <a:srgbClr val="002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Прямая соединительная линия 29"/>
          <p:cNvSpPr/>
          <p:nvPr/>
        </p:nvSpPr>
        <p:spPr>
          <a:xfrm>
            <a:off x="341280" y="4524480"/>
            <a:ext cx="11525400" cy="1440"/>
          </a:xfrm>
          <a:prstGeom prst="line">
            <a:avLst/>
          </a:prstGeom>
          <a:ln w="19080">
            <a:solidFill>
              <a:srgbClr val="002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Прямоугольник 6"/>
          <p:cNvSpPr/>
          <p:nvPr/>
        </p:nvSpPr>
        <p:spPr>
          <a:xfrm>
            <a:off x="262080" y="4581360"/>
            <a:ext cx="2815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T-KZ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 СЕРТИФИК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3" name="Прямая со стрелкой 3"/>
          <p:cNvCxnSpPr/>
          <p:nvPr/>
        </p:nvCxnSpPr>
        <p:spPr>
          <a:xfrm>
            <a:off x="3862080" y="5589360"/>
            <a:ext cx="57708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sp>
        <p:nvSpPr>
          <p:cNvPr id="1264" name="Прямоугольник 33"/>
          <p:cNvSpPr/>
          <p:nvPr/>
        </p:nvSpPr>
        <p:spPr>
          <a:xfrm>
            <a:off x="4673520" y="5194440"/>
            <a:ext cx="3059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осымша бет – «СТ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Z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сертификатта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5" name="Прямая со стрелкой 34"/>
          <p:cNvCxnSpPr/>
          <p:nvPr/>
        </p:nvCxnSpPr>
        <p:spPr>
          <a:xfrm>
            <a:off x="7967160" y="5589360"/>
            <a:ext cx="57708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sp>
        <p:nvSpPr>
          <p:cNvPr id="1266" name="Прямоугольник 35"/>
          <p:cNvSpPr/>
          <p:nvPr/>
        </p:nvSpPr>
        <p:spPr>
          <a:xfrm>
            <a:off x="8615520" y="5194440"/>
            <a:ext cx="318600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-KZ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сертифика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іздестіру үшін мәліметтерді енгі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Прямоугольник 6"/>
          <p:cNvSpPr/>
          <p:nvPr/>
        </p:nvSpPr>
        <p:spPr>
          <a:xfrm>
            <a:off x="262080" y="738360"/>
            <a:ext cx="3457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ҰЛТТЫҚ СТАНДАРТ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Прямоугольник 6"/>
          <p:cNvSpPr/>
          <p:nvPr/>
        </p:nvSpPr>
        <p:spPr>
          <a:xfrm>
            <a:off x="406440" y="2660760"/>
            <a:ext cx="4213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МЛЕКЕТАРАЛЫҚ СТАНДАРТ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Прямоугольник 14"/>
          <p:cNvSpPr/>
          <p:nvPr/>
        </p:nvSpPr>
        <p:spPr>
          <a:xfrm>
            <a:off x="3862440" y="3002040"/>
            <a:ext cx="2016000" cy="14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нет-дүкен бойынша стандарттарды тез арада іздестіру– «атауы бойынша іздестіру» (атауын көрсет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Прямоугольник 15"/>
          <p:cNvSpPr/>
          <p:nvPr/>
        </p:nvSpPr>
        <p:spPr>
          <a:xfrm>
            <a:off x="8831160" y="3000240"/>
            <a:ext cx="2987640" cy="141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млекетаралық стандарттарды қарау (кейінне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орматында сақтауғ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Прямоугольник 16"/>
          <p:cNvSpPr/>
          <p:nvPr/>
        </p:nvSpPr>
        <p:spPr>
          <a:xfrm>
            <a:off x="8831160" y="1076400"/>
            <a:ext cx="2987640" cy="14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Ұлттық стандартты қарау (кейіннен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орматында сақтауғ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Прямоугольник 17"/>
          <p:cNvSpPr/>
          <p:nvPr/>
        </p:nvSpPr>
        <p:spPr>
          <a:xfrm>
            <a:off x="3862440" y="1069920"/>
            <a:ext cx="2016000" cy="141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нет-дүкен бойынша стандарттарды тез арада іздестіру– «атауы бойынша іздестіру» (атауын көрсету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3" name="Прямая со стрелкой 18"/>
          <p:cNvCxnSpPr/>
          <p:nvPr/>
        </p:nvCxnSpPr>
        <p:spPr>
          <a:xfrm>
            <a:off x="3430440" y="3789000"/>
            <a:ext cx="43272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cxnSp>
        <p:nvCxnSpPr>
          <p:cNvPr id="1274" name="Прямая со стрелкой 19"/>
          <p:cNvCxnSpPr/>
          <p:nvPr/>
        </p:nvCxnSpPr>
        <p:spPr>
          <a:xfrm>
            <a:off x="8399160" y="3703320"/>
            <a:ext cx="43236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cxnSp>
        <p:nvCxnSpPr>
          <p:cNvPr id="1275" name="Прямая со стрелкой 20"/>
          <p:cNvCxnSpPr/>
          <p:nvPr/>
        </p:nvCxnSpPr>
        <p:spPr>
          <a:xfrm>
            <a:off x="3431880" y="1699920"/>
            <a:ext cx="43092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cxnSp>
        <p:nvCxnSpPr>
          <p:cNvPr id="1276" name="Прямая со стрелкой 21"/>
          <p:cNvCxnSpPr/>
          <p:nvPr/>
        </p:nvCxnSpPr>
        <p:spPr>
          <a:xfrm>
            <a:off x="8399520" y="1699920"/>
            <a:ext cx="40248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sp>
        <p:nvSpPr>
          <p:cNvPr id="1277" name="Прямоугольник 22"/>
          <p:cNvSpPr/>
          <p:nvPr/>
        </p:nvSpPr>
        <p:spPr>
          <a:xfrm>
            <a:off x="550800" y="3000240"/>
            <a:ext cx="2879640" cy="141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Нормативті техникалық құжаттардың бірыңғай мемлекеттік қ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Arial"/>
              </a:rPr>
              <a:t>Интернет – портал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www.egfntd.k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Прямоугольник 23"/>
          <p:cNvSpPr/>
          <p:nvPr/>
        </p:nvSpPr>
        <p:spPr>
          <a:xfrm>
            <a:off x="6311880" y="2992320"/>
            <a:ext cx="2087640" cy="1417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ГОСТ)-Сан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Мемлекетаралық станд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тізімінен таңдау қаж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Прямая со стрелкой 26"/>
          <p:cNvCxnSpPr/>
          <p:nvPr/>
        </p:nvCxnSpPr>
        <p:spPr>
          <a:xfrm>
            <a:off x="5878440" y="3735000"/>
            <a:ext cx="43416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  <p:sp>
        <p:nvSpPr>
          <p:cNvPr id="1280" name="Прямоугольник 30"/>
          <p:cNvSpPr/>
          <p:nvPr/>
        </p:nvSpPr>
        <p:spPr>
          <a:xfrm>
            <a:off x="6311880" y="1076400"/>
            <a:ext cx="2087640" cy="14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4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ҚР СТ-Сан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Қазақстан Республикасының Ұлттық стандарты (тізімінен таңдау қаж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1" name="Прямая со стрелкой 32"/>
          <p:cNvCxnSpPr/>
          <p:nvPr/>
        </p:nvCxnSpPr>
        <p:spPr>
          <a:xfrm>
            <a:off x="5887800" y="1749240"/>
            <a:ext cx="432360" cy="1080"/>
          </a:xfrm>
          <a:prstGeom prst="straightConnector1">
            <a:avLst/>
          </a:prstGeom>
          <a:ln w="76320">
            <a:solidFill>
              <a:srgbClr val="004a7a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4:28:34Z</dcterms:created>
  <dc:creator>Сапышев Р.</dc:creator>
  <dc:description/>
  <dc:language>en-US</dc:language>
  <cp:lastModifiedBy>Лейла Жакеева</cp:lastModifiedBy>
  <cp:lastPrinted>2018-03-13T03:54:35Z</cp:lastPrinted>
  <dcterms:modified xsi:type="dcterms:W3CDTF">2018-07-05T11:09:20Z</dcterms:modified>
  <cp:revision>1687</cp:revision>
  <dc:subject/>
  <dc:title>Макроэкономический отчет</dc:title>
</cp:coreProperties>
</file>